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907588" cy="6858000"/>
  <p:notesSz cx="6872288" cy="10061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82520"/>
            <a:ext cx="9520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6438960"/>
            <a:ext cx="314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095960" y="6340320"/>
            <a:ext cx="2146320" cy="441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1232640" y="6462720"/>
            <a:ext cx="2472120" cy="27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entre for Technology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IfM logo"/>
          <p:cNvPicPr/>
          <p:nvPr/>
        </p:nvPicPr>
        <p:blipFill>
          <a:blip r:embed="rId3"/>
          <a:stretch/>
        </p:blipFill>
        <p:spPr>
          <a:xfrm>
            <a:off x="522360" y="6316560"/>
            <a:ext cx="72396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1266840" y="6438960"/>
            <a:ext cx="5748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358200" y="6438960"/>
            <a:ext cx="314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63480" y="900000"/>
            <a:ext cx="8583840" cy="49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 Narrow"/>
              </a:rPr>
              <a:t>‘</a:t>
            </a:r>
            <a:r>
              <a:rPr b="1" i="1" lang="en-US" sz="3200" spc="-1" strike="noStrike">
                <a:solidFill>
                  <a:srgbClr val="000099"/>
                </a:solidFill>
                <a:latin typeface="Arial Narrow"/>
              </a:rPr>
              <a:t>Business appraisal of technology potentials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 Narrow"/>
              </a:rPr>
              <a:t>Value Roadmapping Worksho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 Narrow"/>
              </a:rPr>
              <a:t>20th February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Rob Phaal, Marcel Dissel, Clare Farruk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502800" y="758880"/>
            <a:ext cx="28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99"/>
                </a:solidFill>
                <a:latin typeface="Arial Narrow"/>
              </a:rPr>
              <a:t>Instru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76400" y="1887480"/>
            <a:ext cx="899820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ased on our understanding of how technology will develop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at possible value, opportun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benefits (etc.) could aris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- Products &amp;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- Businesses &amp; fac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- Technology &amp; 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- Cost &amp; risk re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- Strategic po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Use post-it notes to capture ideas (brainstorm) on road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Use arrow post-it notes to focus on most interesting opportunities (one each)  </a:t>
            </a: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 [number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 Narrow"/>
              </a:rPr>
              <a:t>explain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 nature of value expectation on arrow post-it no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01040" y="247680"/>
            <a:ext cx="73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dentify future value opportunities (value streams) and foc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841800" y="2017800"/>
            <a:ext cx="274392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sider all possible sector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ns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struction &amp; Infra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griculture, Forestry &amp; Fo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ining &amp; Prim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ufactu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hemic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Services &amp; Reta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til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Pharmaceuticals &amp; Medi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IT, Communications &amp; 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Def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du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733320" y="3510000"/>
            <a:ext cx="8777520" cy="9604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092120" y="312840"/>
            <a:ext cx="1861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99"/>
                </a:solidFill>
                <a:latin typeface="Arial Narrow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3520" y="1266840"/>
            <a:ext cx="8533800" cy="48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09:00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troduction, background aims &amp; workshop age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09:15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ap technology (current, short-, medium- , long-term &amp; vis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0:00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dentify future value opportunities (value streams) and foc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0:45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1:00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ap market and business trends &amp; drivers, and prioriti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pportunities (top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1:45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dentify barriers &amp; enablers for priority opportun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2:15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eview and way forw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2:30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721680" y="758880"/>
            <a:ext cx="28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99"/>
                </a:solidFill>
                <a:latin typeface="Arial Narrow"/>
              </a:rPr>
              <a:t>Instru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042200" y="2065320"/>
            <a:ext cx="801072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r focus opportunit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hat are the key market and business trends and drivers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fluence the value potential of these opportuniti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Use post-it notes to capture ideas (brainstorm) on road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(link to opportunity numb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Use ‘sticker vote’ to identify top 3 opportunit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(criteria? “how big is the pot of gold at the end of the rainbow?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68440" y="206280"/>
            <a:ext cx="895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Map market and business trends &amp; drivers, and prioritise opportunities (top 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733320" y="4479840"/>
            <a:ext cx="8777520" cy="6080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092120" y="312840"/>
            <a:ext cx="1861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99"/>
                </a:solidFill>
                <a:latin typeface="Arial Narrow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03520" y="1266840"/>
            <a:ext cx="8533800" cy="48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09:00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troduction, background aims &amp; workshop age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09:15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ap technology (current, short-, medium- , long-term &amp; vis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0:00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dentify future value opportunities (value streams) and foc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0:45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1:00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ap market and business trends &amp; drivers, and prioriti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pportunities (top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1:45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dentify barriers &amp; enablers for priority opportun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2:15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eview and way forw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2:30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3842640" y="758880"/>
            <a:ext cx="28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99"/>
                </a:solidFill>
                <a:latin typeface="Arial Narrow"/>
              </a:rPr>
              <a:t>Instru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130400" y="2290680"/>
            <a:ext cx="739656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r top 3 opportunit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hat could hinder progress? (technical &amp; non-techn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hat could help progress? (technical &amp; non-techn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Use post-it notes to capture ideas (brainstorm) on road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(link to opportunity numb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737000" y="247680"/>
            <a:ext cx="642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dentify barriers &amp; enablers for priority opportun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733320" y="5062680"/>
            <a:ext cx="8777520" cy="6080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092120" y="312840"/>
            <a:ext cx="1861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99"/>
                </a:solidFill>
                <a:latin typeface="Arial Narrow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03520" y="1266840"/>
            <a:ext cx="8533800" cy="48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09:00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troduction, background aims &amp; workshop age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09:15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ap technology (current, short-, medium- , long-term &amp; vis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0:00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dentify future value opportunities (value streams) and foc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0:45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1:00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ap market and business trends &amp; drivers, and prioriti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pportunities (top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1:45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dentify barriers &amp; enablers for priority opportun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2:15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eview and way forw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2:30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704400" y="758880"/>
            <a:ext cx="28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99"/>
                </a:solidFill>
                <a:latin typeface="Arial Narrow"/>
              </a:rPr>
              <a:t>Instru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0400" y="2290680"/>
            <a:ext cx="752148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hat have we learn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hich opportunities are worth taking forward, and h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ow well did value roadmapping workshop meet your ai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Please fill in questionnair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20440" y="247680"/>
            <a:ext cx="308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eview and way forw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253760" y="2641680"/>
            <a:ext cx="171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99"/>
                </a:solidFill>
                <a:latin typeface="Arial Narrow"/>
              </a:rPr>
              <a:t>Clos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892600" y="388800"/>
            <a:ext cx="42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99"/>
                </a:solidFill>
                <a:latin typeface="Arial Narrow"/>
              </a:rPr>
              <a:t>Generic VRM Ai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19560" y="1268280"/>
            <a:ext cx="892368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o provide a structured framework for mapping and explo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otential value streams based on the selected techn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(either early stage or technology push situ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o identify new focused opportunities to follow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o support the process of managing technology for value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he firm, providing input to technology strategy, planning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xploitation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o support communication between technological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mmercial functions in the bus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092120" y="312840"/>
            <a:ext cx="1861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99"/>
                </a:solidFill>
                <a:latin typeface="Arial Narrow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03520" y="1266840"/>
            <a:ext cx="8533800" cy="48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09:00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troduction, background aims &amp; workshop age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09:15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ap technology (current, short-, medium- , long-term &amp; vis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0:00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dentify future value opportunities (value streams) and foc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0:45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1:00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ap market and business trends &amp; drivers, and prioriti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pportunities (top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1:45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dentify barriers &amp; enablers for priority opportun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2:15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eview and way forw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2:30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600120" y="611280"/>
            <a:ext cx="8543520" cy="5686200"/>
            <a:chOff x="600120" y="611280"/>
            <a:chExt cx="8543520" cy="5686200"/>
          </a:xfrm>
        </p:grpSpPr>
        <p:sp>
          <p:nvSpPr>
            <p:cNvPr id="51" name=""/>
            <p:cNvSpPr/>
            <p:nvPr/>
          </p:nvSpPr>
          <p:spPr>
            <a:xfrm>
              <a:off x="600120" y="932040"/>
              <a:ext cx="8530920" cy="110052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0120" y="2032920"/>
              <a:ext cx="8530920" cy="2063520"/>
            </a:xfrm>
            <a:prstGeom prst="rect">
              <a:avLst/>
            </a:prstGeom>
            <a:solidFill>
              <a:srgbClr val="fffcb7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0120" y="4096440"/>
              <a:ext cx="8530920" cy="1168920"/>
            </a:xfrm>
            <a:prstGeom prst="rect">
              <a:avLst/>
            </a:prstGeom>
            <a:solidFill>
              <a:srgbClr val="ff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00120" y="5265720"/>
              <a:ext cx="8530920" cy="103176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20" y="1230120"/>
              <a:ext cx="1652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Market &amp; busin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trends &amp; driv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6200000">
              <a:off x="309960" y="2804400"/>
              <a:ext cx="131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Value strea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03000" y="4119120"/>
              <a:ext cx="1697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Non-technic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enablers &amp; barri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03000" y="4709520"/>
              <a:ext cx="1697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Technic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enablers &amp; barri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02280" y="5397480"/>
              <a:ext cx="1189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Research &amp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technolog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program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12680" y="2086920"/>
              <a:ext cx="897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Products /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servi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013760" y="2598480"/>
              <a:ext cx="1073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Businesses /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fac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010520" y="3128760"/>
              <a:ext cx="126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Technology / I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11240" y="3474360"/>
              <a:ext cx="1596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Cost / risk redu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011600" y="3799800"/>
              <a:ext cx="1418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Strategic pos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00120" y="4715280"/>
              <a:ext cx="85309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012680" y="3752280"/>
              <a:ext cx="81183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012680" y="3408480"/>
              <a:ext cx="81183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012680" y="3064680"/>
              <a:ext cx="81183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012680" y="2621520"/>
              <a:ext cx="81183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594880" y="932040"/>
              <a:ext cx="0" cy="5365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594880" y="863280"/>
              <a:ext cx="0" cy="543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246200" y="863280"/>
              <a:ext cx="0" cy="543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035040" y="863280"/>
              <a:ext cx="0" cy="543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410960" y="863280"/>
              <a:ext cx="0" cy="543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443080" y="863280"/>
              <a:ext cx="0" cy="543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74040" y="611280"/>
              <a:ext cx="532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Pa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31760" y="611280"/>
              <a:ext cx="1029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Short-ter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119280" y="611280"/>
              <a:ext cx="122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Medium-ter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458840" y="611280"/>
              <a:ext cx="100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Long-ter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425080" y="611280"/>
              <a:ext cx="680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V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664000" y="1001160"/>
              <a:ext cx="6398280" cy="962640"/>
            </a:xfrm>
            <a:custGeom>
              <a:avLst/>
              <a:gdLst>
                <a:gd name="textAreaLeft" fmla="*/ 0 w 6398280"/>
                <a:gd name="textAreaRight" fmla="*/ 6398640 w 6398280"/>
                <a:gd name="textAreaTop" fmla="*/ 0 h 962640"/>
                <a:gd name="textAreaBottom" fmla="*/ 963000 h 96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290" y="0"/>
                  </a:lnTo>
                  <a:lnTo>
                    <a:pt x="21600" y="10800"/>
                  </a:lnTo>
                  <a:lnTo>
                    <a:pt x="2029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‘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Context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Social, technological, economic, environmental &amp; political trends &amp; driv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Customer &amp; competitor intelligen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Business strategy, objectives &amp; mileston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664000" y="2101320"/>
              <a:ext cx="6398280" cy="1926000"/>
            </a:xfrm>
            <a:custGeom>
              <a:avLst/>
              <a:gdLst>
                <a:gd name="textAreaLeft" fmla="*/ 0 w 6398280"/>
                <a:gd name="textAreaRight" fmla="*/ 6398640 w 6398280"/>
                <a:gd name="textAreaTop" fmla="*/ 0 h 1926000"/>
                <a:gd name="textAreaBottom" fmla="*/ 1926360 h 192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290" y="0"/>
                  </a:lnTo>
                  <a:lnTo>
                    <a:pt x="21600" y="10800"/>
                  </a:lnTo>
                  <a:lnTo>
                    <a:pt x="2029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Potential ‘value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Revenu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Cost redu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Other advantag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664000" y="5402880"/>
              <a:ext cx="6398280" cy="825120"/>
            </a:xfrm>
            <a:custGeom>
              <a:avLst/>
              <a:gdLst>
                <a:gd name="textAreaLeft" fmla="*/ 0 w 6398280"/>
                <a:gd name="textAreaRight" fmla="*/ 6398640 w 6398280"/>
                <a:gd name="textAreaTop" fmla="*/ 0 h 825120"/>
                <a:gd name="textAreaBottom" fmla="*/ 825480 h 82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290" y="0"/>
                  </a:lnTo>
                  <a:lnTo>
                    <a:pt x="21600" y="10800"/>
                  </a:lnTo>
                  <a:lnTo>
                    <a:pt x="2029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Technolog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Milestones, investment, capab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184080" y="2124360"/>
              <a:ext cx="2959560" cy="1856880"/>
            </a:xfrm>
            <a:prstGeom prst="irregularSeal1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The richer the pictu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the more likely it is tha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value will be generat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64000" y="4233960"/>
              <a:ext cx="6398280" cy="894240"/>
            </a:xfrm>
            <a:custGeom>
              <a:avLst/>
              <a:gdLst>
                <a:gd name="textAreaLeft" fmla="*/ 0 w 6398280"/>
                <a:gd name="textAreaRight" fmla="*/ 6398640 w 6398280"/>
                <a:gd name="textAreaTop" fmla="*/ 0 h 894240"/>
                <a:gd name="textAreaBottom" fmla="*/ 894600 h 89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290" y="0"/>
                  </a:lnTo>
                  <a:lnTo>
                    <a:pt x="21600" y="10800"/>
                  </a:lnTo>
                  <a:lnTo>
                    <a:pt x="2029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Enablers &amp; barri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Complementary technologies, systems / alternativ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Risks, barriers and potential probl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1740240"/>
              <a:ext cx="0" cy="676080"/>
            </a:xfrm>
            <a:prstGeom prst="line">
              <a:avLst/>
            </a:prstGeom>
            <a:ln w="8892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614360" y="1666080"/>
              <a:ext cx="1067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 Narrow"/>
                </a:rPr>
                <a:t>Market Pul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4560" y="3723480"/>
              <a:ext cx="0" cy="2189520"/>
            </a:xfrm>
            <a:prstGeom prst="line">
              <a:avLst/>
            </a:prstGeom>
            <a:ln w="8892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11840" y="5439240"/>
              <a:ext cx="1163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 Narrow"/>
                </a:rPr>
                <a:t>Technolog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 Narrow"/>
                </a:rPr>
                <a:t>Pus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884160" y="136440"/>
            <a:ext cx="80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80"/>
                </a:solidFill>
                <a:latin typeface="Arial Narrow"/>
              </a:rPr>
              <a:t>Value  Roadmapping Conce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60120" y="6543720"/>
            <a:ext cx="2612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Developed in collaboration with BAE SYSTEM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76320" y="1390680"/>
            <a:ext cx="9753480" cy="4648320"/>
          </a:xfrm>
          <a:custGeom>
            <a:avLst/>
            <a:gdLst>
              <a:gd name="textAreaLeft" fmla="*/ 0 w 9753480"/>
              <a:gd name="textAreaRight" fmla="*/ 9753840 w 9753480"/>
              <a:gd name="textAreaTop" fmla="*/ 0 h 4648320"/>
              <a:gd name="textAreaBottom" fmla="*/ 4648680 h 4648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05" y="0"/>
                </a:lnTo>
                <a:lnTo>
                  <a:pt x="21600" y="10800"/>
                </a:lnTo>
                <a:lnTo>
                  <a:pt x="208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0440" y="5276880"/>
            <a:ext cx="9220320" cy="609480"/>
          </a:xfrm>
          <a:custGeom>
            <a:avLst/>
            <a:gdLst>
              <a:gd name="textAreaLeft" fmla="*/ 0 w 9220320"/>
              <a:gd name="textAreaRight" fmla="*/ 9220680 w 92203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306" y="0"/>
                </a:lnTo>
                <a:lnTo>
                  <a:pt x="21600" y="10800"/>
                </a:lnTo>
                <a:lnTo>
                  <a:pt x="2130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Continue to use VRM as contextual framework - may shift to other roadmapping format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Options thinking throughout, from identification and prioritisation of opportunities to marketing and ongoing portfolio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14480" y="1924200"/>
            <a:ext cx="3124080" cy="20412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06920" y="4286160"/>
            <a:ext cx="3085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Explore value opportunities (pull - push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using value roadmap frame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 &amp; assess strategic op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238560" y="1924200"/>
            <a:ext cx="3124080" cy="20412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076640" y="375300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381560" y="3753000"/>
            <a:ext cx="3808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762440" y="3753000"/>
            <a:ext cx="381240" cy="75960"/>
          </a:xfrm>
          <a:prstGeom prst="line">
            <a:avLst/>
          </a:prstGeom>
          <a:ln w="25560">
            <a:solidFill>
              <a:srgbClr val="000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4762440" y="3676680"/>
            <a:ext cx="381240" cy="76320"/>
          </a:xfrm>
          <a:prstGeom prst="line">
            <a:avLst/>
          </a:prstGeom>
          <a:ln w="25560">
            <a:solidFill>
              <a:srgbClr val="000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43680" y="3676680"/>
            <a:ext cx="3808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43680" y="3828960"/>
            <a:ext cx="5331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610160" y="2610000"/>
            <a:ext cx="3808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5524560" y="3066840"/>
            <a:ext cx="228600" cy="609480"/>
          </a:xfrm>
          <a:prstGeom prst="line">
            <a:avLst/>
          </a:prstGeom>
          <a:ln w="25560">
            <a:solidFill>
              <a:srgbClr val="000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629080" y="287640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171880" y="248616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676840" y="2762280"/>
            <a:ext cx="7632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381560" y="2609640"/>
            <a:ext cx="228600" cy="1143000"/>
          </a:xfrm>
          <a:prstGeom prst="line">
            <a:avLst/>
          </a:prstGeom>
          <a:ln w="25560">
            <a:solidFill>
              <a:srgbClr val="000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4762440" y="2609640"/>
            <a:ext cx="228600" cy="1143000"/>
          </a:xfrm>
          <a:prstGeom prst="line">
            <a:avLst/>
          </a:prstGeom>
          <a:ln w="25560">
            <a:solidFill>
              <a:srgbClr val="000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676840" y="3067200"/>
            <a:ext cx="76320" cy="761760"/>
          </a:xfrm>
          <a:prstGeom prst="line">
            <a:avLst/>
          </a:prstGeom>
          <a:ln w="25560">
            <a:solidFill>
              <a:srgbClr val="000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43480" y="2610000"/>
            <a:ext cx="1522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089240" y="3394080"/>
            <a:ext cx="152640" cy="152280"/>
          </a:xfrm>
          <a:prstGeom prst="noSmoking">
            <a:avLst>
              <a:gd name="adj" fmla="val 2083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33840" y="3397320"/>
            <a:ext cx="152640" cy="152280"/>
          </a:xfrm>
          <a:prstGeom prst="noSmoking">
            <a:avLst>
              <a:gd name="adj" fmla="val 2083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3400560"/>
            <a:ext cx="152640" cy="152280"/>
          </a:xfrm>
          <a:prstGeom prst="noSmoking">
            <a:avLst>
              <a:gd name="adj" fmla="val 2083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390920" y="3219480"/>
            <a:ext cx="152640" cy="152280"/>
          </a:xfrm>
          <a:prstGeom prst="noSmoking">
            <a:avLst>
              <a:gd name="adj" fmla="val 2083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00880" y="3219480"/>
            <a:ext cx="152280" cy="152280"/>
          </a:xfrm>
          <a:prstGeom prst="noSmoking">
            <a:avLst>
              <a:gd name="adj" fmla="val 2083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905440" y="2762280"/>
            <a:ext cx="152640" cy="76320"/>
          </a:xfrm>
          <a:prstGeom prst="line">
            <a:avLst/>
          </a:prstGeom>
          <a:ln w="25560">
            <a:solidFill>
              <a:srgbClr val="000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53160" y="287640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057640" y="248616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553000" y="248616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80040" y="261000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981760" y="3225960"/>
            <a:ext cx="152280" cy="152280"/>
          </a:xfrm>
          <a:prstGeom prst="noSmoking">
            <a:avLst>
              <a:gd name="adj" fmla="val 2083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62840" y="4286160"/>
            <a:ext cx="2504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Map op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Formulate business propos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6362640" y="1924200"/>
            <a:ext cx="3124440" cy="20412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6740640" y="4286160"/>
            <a:ext cx="2324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Market option/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Manage ongoing programm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nd partner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216920" y="3753000"/>
            <a:ext cx="3045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521480" y="375300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902720" y="3753000"/>
            <a:ext cx="380880" cy="75960"/>
          </a:xfrm>
          <a:prstGeom prst="line">
            <a:avLst/>
          </a:prstGeom>
          <a:ln w="25560">
            <a:solidFill>
              <a:srgbClr val="000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7902720" y="3676680"/>
            <a:ext cx="380880" cy="76320"/>
          </a:xfrm>
          <a:prstGeom prst="line">
            <a:avLst/>
          </a:prstGeom>
          <a:ln w="25560">
            <a:solidFill>
              <a:srgbClr val="000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283600" y="3676680"/>
            <a:ext cx="3808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283600" y="382896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750080" y="261000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8664480" y="3066840"/>
            <a:ext cx="228600" cy="609480"/>
          </a:xfrm>
          <a:prstGeom prst="line">
            <a:avLst/>
          </a:prstGeom>
          <a:ln w="25560">
            <a:solidFill>
              <a:srgbClr val="000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817120" y="2762280"/>
            <a:ext cx="7596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7521480" y="2609640"/>
            <a:ext cx="228600" cy="1143000"/>
          </a:xfrm>
          <a:prstGeom prst="line">
            <a:avLst/>
          </a:prstGeom>
          <a:ln w="25560">
            <a:solidFill>
              <a:srgbClr val="000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7902720" y="2609640"/>
            <a:ext cx="228600" cy="1143000"/>
          </a:xfrm>
          <a:prstGeom prst="line">
            <a:avLst/>
          </a:prstGeom>
          <a:ln w="25560">
            <a:solidFill>
              <a:srgbClr val="000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8817120" y="3067200"/>
            <a:ext cx="75960" cy="761760"/>
          </a:xfrm>
          <a:prstGeom prst="line">
            <a:avLst/>
          </a:prstGeom>
          <a:ln w="25560">
            <a:solidFill>
              <a:srgbClr val="000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483760" y="2610000"/>
            <a:ext cx="1522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229520" y="3394080"/>
            <a:ext cx="152280" cy="152280"/>
          </a:xfrm>
          <a:prstGeom prst="noSmoking">
            <a:avLst>
              <a:gd name="adj" fmla="val 2083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674120" y="3397320"/>
            <a:ext cx="152280" cy="152280"/>
          </a:xfrm>
          <a:prstGeom prst="noSmoking">
            <a:avLst>
              <a:gd name="adj" fmla="val 2083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359920" y="3400560"/>
            <a:ext cx="152280" cy="152280"/>
          </a:xfrm>
          <a:prstGeom prst="noSmoking">
            <a:avLst>
              <a:gd name="adj" fmla="val 2083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531200" y="3219480"/>
            <a:ext cx="152280" cy="152280"/>
          </a:xfrm>
          <a:prstGeom prst="noSmoking">
            <a:avLst>
              <a:gd name="adj" fmla="val 2083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740800" y="3219480"/>
            <a:ext cx="152280" cy="152280"/>
          </a:xfrm>
          <a:prstGeom prst="noSmoking">
            <a:avLst>
              <a:gd name="adj" fmla="val 2083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9045720" y="2762280"/>
            <a:ext cx="152280" cy="76320"/>
          </a:xfrm>
          <a:prstGeom prst="line">
            <a:avLst/>
          </a:prstGeom>
          <a:ln w="25560">
            <a:solidFill>
              <a:srgbClr val="000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893080" y="287640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197920" y="248616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693280" y="248616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220320" y="261000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121680" y="3225960"/>
            <a:ext cx="152640" cy="152280"/>
          </a:xfrm>
          <a:prstGeom prst="noSmoking">
            <a:avLst>
              <a:gd name="adj" fmla="val 2083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191440" y="2228760"/>
            <a:ext cx="11811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€</a:t>
            </a:r>
            <a:endParaRPr b="0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51" name=""/>
          <p:cNvSpPr/>
          <p:nvPr/>
        </p:nvSpPr>
        <p:spPr>
          <a:xfrm>
            <a:off x="316080" y="380880"/>
            <a:ext cx="934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80"/>
                </a:solidFill>
                <a:latin typeface="Arial Narrow"/>
              </a:rPr>
              <a:t>Value  Roadmapping Concept… way forwar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82920" y="13651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02040" y="13651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021520" y="13651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14480" y="1905120"/>
            <a:ext cx="3119400" cy="3232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54080" y="399960"/>
            <a:ext cx="3433680" cy="25146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6556320" y="111240"/>
            <a:ext cx="3164040" cy="26794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3678120" y="2990880"/>
            <a:ext cx="6180120" cy="38354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3486240" y="1244520"/>
            <a:ext cx="3422520" cy="493920"/>
          </a:xfrm>
          <a:prstGeom prst="rightArrow">
            <a:avLst>
              <a:gd name="adj1" fmla="val 50000"/>
              <a:gd name="adj2" fmla="val 173233"/>
            </a:avLst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813800" y="2604960"/>
            <a:ext cx="703080" cy="744840"/>
          </a:xfrm>
          <a:prstGeom prst="downArrow">
            <a:avLst>
              <a:gd name="adj1" fmla="val 50000"/>
              <a:gd name="adj2" fmla="val 26485"/>
            </a:avLst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23160" y="3962520"/>
            <a:ext cx="2422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99"/>
                </a:solidFill>
                <a:latin typeface="Arial Narrow"/>
              </a:rPr>
              <a:t>Worksh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99"/>
                </a:solidFill>
                <a:latin typeface="Arial Narrow"/>
              </a:rPr>
              <a:t>activ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733320" y="1814400"/>
            <a:ext cx="8777520" cy="6080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092120" y="312840"/>
            <a:ext cx="1861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99"/>
                </a:solidFill>
                <a:latin typeface="Arial Narrow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03520" y="1266840"/>
            <a:ext cx="8533800" cy="48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09:00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troduction, background aims &amp; workshop age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09:15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ap technology (current, short-, medium- , long-term &amp; vis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0:00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dentify future value opportunities (value streams) and foc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0:45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1:00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ap market and business trends &amp; drivers, and prioriti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pportunities (top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1:45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dentify barriers &amp; enablers for priority opportun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2:15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eview and way forw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2:30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737520" y="758880"/>
            <a:ext cx="28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99"/>
                </a:solidFill>
                <a:latin typeface="Arial Narrow"/>
              </a:rPr>
              <a:t>Instru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28960" y="2149560"/>
            <a:ext cx="787212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r focus technolog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hat is current state of art (projects, capability, performance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hat are the long-term aspirations / vision for this technolog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hat are the stepping stones towards this vi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Use post-it notes to capture ideas (brainstorm) on road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00520" y="247680"/>
            <a:ext cx="76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ap technology (current, short-, medium- , long-term &amp; vis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733320" y="2359080"/>
            <a:ext cx="8777520" cy="6080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092120" y="312840"/>
            <a:ext cx="1861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99"/>
                </a:solidFill>
                <a:latin typeface="Arial Narrow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03520" y="1266840"/>
            <a:ext cx="8533800" cy="48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09:00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troduction, background aims &amp; workshop age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09:15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ap technology (current, short-, medium- , long-term &amp; vis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0:00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dentify future value opportunities (value streams) and foc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0:45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1:00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ap market and business trends &amp; drivers, and prioriti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pportunities (top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1:45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dentify barriers &amp; enablers for priority opportun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2:15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eview and way forw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2:30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0T12:27:48Z</dcterms:created>
  <dc:creator>Rob Phaal</dc:creator>
  <dc:description/>
  <cp:keywords/>
  <dc:language>en-US</dc:language>
  <cp:lastModifiedBy>Marcel Dissel</cp:lastModifiedBy>
  <cp:lastPrinted>2003-06-03T15:40:17Z</cp:lastPrinted>
  <dcterms:modified xsi:type="dcterms:W3CDTF">2006-02-20T12:55:04Z</dcterms:modified>
  <cp:revision>315</cp:revision>
  <dc:subject/>
  <dc:title>No Slide Title</dc:title>
</cp:coreProperties>
</file>